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53A5-7557-41CA-97B0-869B440305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160A-991B-4A87-958C-A41561E5DC9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087C-9816-4053-AF25-C1A1EAD59CC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1FDA-728C-4D1E-8E65-1838113206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9061-5BF6-4421-A70C-8C923917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7F2-0306-46DC-A243-3F15A654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B082-0D12-4D70-BB13-1D167E06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2D3-870C-4A03-A82A-998FE248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B5E3-40C0-4D36-A2A6-C5249727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48BB-2A28-4962-A35C-D80E4E34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4CB7-EBD9-4E9F-AC48-5700D33D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E8A8-2C39-4F23-82DC-6E1BC6A3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0C11-5CE9-4605-880B-38A0AAC2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A33D-EC5B-48F3-9C3C-7062B903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64C4-4DE1-424A-AB47-28EB5767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340D-AC01-466C-AE24-130B1961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4CC3-3B38-498B-A2A4-9CED3998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F6EF-5A07-4C2F-B1EE-F65C5848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B591-9FED-48C3-B215-9CADDA27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AFA4-7F8E-4B13-B3A6-179E8D86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DCD5-A8BF-4070-AEAD-E99F306B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DAE-0E9B-41F1-85C6-CCA92485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98E-F1F2-448D-9DFA-39B8F125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C4D-CDB6-46CB-8B5F-29094B26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FD2-5365-48EA-8395-C7036324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8AF-5576-4971-A467-7E70888C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EB04-B87B-4836-A54D-7C2B253F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019-8AAB-4F33-A30D-63C184D7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1DAE-E906-49C7-B32D-7F066F3573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38B0-08AB-4A7F-9F8E-E77601F067AC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1989000"/>
            <a:ext cx="89312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60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RESIDENT TWINNING ADVISERS (RTA) TRAINING AND 7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JOINT TRAINING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26920" y="4662360"/>
            <a:ext cx="1441440" cy="1430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635280" y="5016600"/>
            <a:ext cx="532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Claus LE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Team Leader Twi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Unit C3 – Institution Building, TAIEX, Twinning</a:t>
            </a:r>
            <a:br>
              <a:rPr sz="1600"/>
            </a:b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DG Neighbourhood and Enlargement Negoti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6" descr="C:\Users\banesan\Desktop\Footer Box NEAR.jpg"/>
          <p:cNvPicPr/>
          <p:nvPr/>
        </p:nvPicPr>
        <p:blipFill>
          <a:blip r:embed="rId2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1A8B-1E08-491D-A26A-BA089C36D98B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627280" y="3573360"/>
            <a:ext cx="4537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Arial"/>
              </a:rPr>
              <a:t>Brussels, 30/11/2017 – 01/12/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Verdana"/>
                <a:ea typeface="Arial"/>
              </a:rPr>
              <a:t>Centre Albert Borschette (CCAB), Rue Froissart, 36 –Brussels, Room 0.B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487440" y="1609560"/>
            <a:ext cx="8169120" cy="5115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3384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500280"/>
            <a:ext cx="655344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. Welcome No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4241880"/>
            <a:ext cx="655344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lvl="1" marL="5943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. What's new in IPA, ENI East and ENI South regions – recent decis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05000" y="4941720"/>
            <a:ext cx="65530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     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I. Overview of the program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486240" y="2193840"/>
            <a:ext cx="15127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banesan\Desktop\Footer Box NEAR.jpg"/>
          <p:cNvPicPr/>
          <p:nvPr/>
        </p:nvPicPr>
        <p:blipFill>
          <a:blip r:embed="rId3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8749-D00B-46F1-BA49-5D987119966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85920" y="5616720"/>
            <a:ext cx="6553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V. Some key messages before we sta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 Black"/>
                <a:ea typeface="MS PGothic"/>
              </a:rPr>
              <a:t>THE TWINNING TEAM: WHO DOES WHAT</a:t>
            </a:r>
            <a:br>
              <a:rPr sz="1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866960"/>
          <a:ext cx="5113440" cy="1735200"/>
        </p:xfrm>
        <a:graphic>
          <a:graphicData uri="http://schemas.openxmlformats.org/drawingml/2006/table">
            <a:tbl>
              <a:tblPr/>
              <a:tblGrid>
                <a:gridCol w="1729080"/>
                <a:gridCol w="1728720"/>
                <a:gridCol w="165564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ristophe (1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j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i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8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larus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ormer Yugoslav Republic of Macedo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nia &amp; Herzegovin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ldov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lestine*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bano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sovo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occ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8"/>
          <p:cNvSpPr/>
          <p:nvPr/>
        </p:nvSpPr>
        <p:spPr>
          <a:xfrm>
            <a:off x="971640" y="3716280"/>
            <a:ext cx="741672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Horizontal areas of responsibility assigned to each 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ndated Bodie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ipeline Coordination and bi-annual info to NCP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armonisation all internal tools and new Twinning Database: Lucia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IBD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RTA Training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Twinning Functional Mailbox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intenance and Updates of NCP-lists for webpage etc.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Ex-IPA HQ coordination SC procedure Old Manual: Birgit/Clau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Focus Group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orizontal Twinning Evaluation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roblem cases requiring litig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ordination CFA/Legal Units and/or EUD/MS/PC triangle dialogues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mmunication/Visibility issues and Twinning Newsletter: Stefania (assigned to C3 management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6254640" y="1700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81000" y="63831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 This designation is without prejudice to positions on status and is in line with UNSCR 1244/1999 and the ICJ Opinion on the Kosovo Declaration of Independence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* This designation shall not be construed as recognition of a State of Palestine and is without prejudice to the individual positions of the Member States on this issue.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banesan\Desktop\Footer Box NEAR.jpg"/>
          <p:cNvPicPr/>
          <p:nvPr/>
        </p:nvPicPr>
        <p:blipFill>
          <a:blip r:embed="rId1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AFF8-9047-4CCB-8617-5DDC67206D54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489040" y="3429000"/>
            <a:ext cx="41468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106640" y="17319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  <a:ea typeface="Arial"/>
              </a:rPr>
              <a:t>HAVE A GOOD START!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LINOVIC Sanja (ELARG)</cp:lastModifiedBy>
  <cp:lastPrinted>2017-11-29T08:38:47Z</cp:lastPrinted>
  <dcterms:modified xsi:type="dcterms:W3CDTF">2017-12-12T12:21:27Z</dcterms:modified>
  <cp:revision>322</cp:revision>
  <dc:subject/>
  <dc:title>Slide 1</dc:title>
</cp:coreProperties>
</file>