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541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196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541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BC33F-F8A8-4AA0-AC6F-DABADCFAF7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EAEE2-2633-495D-96A2-CB2C1245C5A3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255A7-FF5B-429E-A843-7DC857B2374C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4C1B8-190F-4B55-BF34-76F47A3C12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24C9-A7DC-451B-9049-0E169B584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CA4C-E363-4AC9-813A-F8E5D1B3E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31AC-BB2F-4F85-8AC2-6320D4066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2D5C-E81A-402B-8CC0-22221218C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1E1A1-9C85-49AD-A393-BE82FC733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5D61B-DEFB-4C9F-B847-0283F61F7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41119-B362-4FF8-A60D-4044D965A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50BF2-8FD5-45B2-8D8C-8282A2C76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E611A-91C1-4D26-80F4-9B8DD29AD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37C75-F19D-4D61-BDB8-DB86FD365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CD775-D22B-4084-93D8-862AF33B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CEB9-0F24-4BC1-B2CC-A18429EF7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FDD46-C015-4195-8D90-9A96DC3B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7B9C0-5467-43C8-841E-1B01A25E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62839-BBF4-4FC4-927A-7EDC6BF24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7E93F-7817-4C4E-804E-47520E404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BE45E-B94C-4CE7-8C7F-2ABA0C785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C69C-552D-44A4-AB73-D3032024E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62C5-4B33-417A-A72C-7EBDDD306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12FA-061F-413B-9D9F-AAE3CEC5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E859-1176-4541-B6D8-224D2EAE8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71FA-308F-4228-A513-1A52EE8A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22A5-1490-4A1D-99C8-A9326250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1EE8-1848-4BD6-82D3-2D736D13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F058F-80B3-45A4-A1D1-5BAEE23B144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17C81-A3FC-40A7-8528-8EAF4A5BE010}" type="slidenum">
              <a:rPr b="0" lang="en-GB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7640" y="1989000"/>
            <a:ext cx="893124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60</a:t>
            </a:r>
            <a:r>
              <a:rPr b="1" lang="en-GB" sz="2800" spc="-1" strike="noStrike" baseline="30000">
                <a:solidFill>
                  <a:srgbClr val="ff6600"/>
                </a:solidFill>
                <a:latin typeface="Verdana"/>
              </a:rPr>
              <a:t>TH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 RESIDENT TWINNING ADVISERS (RTA) TRAINING AND 7</a:t>
            </a:r>
            <a:r>
              <a:rPr b="1" lang="en-GB" sz="2800" spc="-1" strike="noStrike" baseline="30000">
                <a:solidFill>
                  <a:srgbClr val="ff6600"/>
                </a:solidFill>
                <a:latin typeface="Verdana"/>
              </a:rPr>
              <a:t>TH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 JOINT TRAINING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826920" y="4662360"/>
            <a:ext cx="1441440" cy="1430640"/>
          </a:xfrm>
          <a:prstGeom prst="rect">
            <a:avLst/>
          </a:prstGeom>
          <a:ln w="0">
            <a:noFill/>
          </a:ln>
        </p:spPr>
      </p:pic>
      <p:sp>
        <p:nvSpPr>
          <p:cNvPr id="97" name="TextBox 1"/>
          <p:cNvSpPr/>
          <p:nvPr/>
        </p:nvSpPr>
        <p:spPr>
          <a:xfrm>
            <a:off x="3635280" y="5016600"/>
            <a:ext cx="5326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  <a:ea typeface="Arial"/>
              </a:rPr>
              <a:t>Claus LECH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Verdana"/>
                <a:ea typeface="Arial"/>
              </a:rPr>
              <a:t>Team Leader Twinn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Verdana"/>
                <a:ea typeface="Arial"/>
              </a:rPr>
              <a:t>Unit C3 – Institution Building, TAIEX, Twinning</a:t>
            </a:r>
            <a:br>
              <a:rPr sz="1600"/>
            </a:br>
            <a:r>
              <a:rPr b="0" lang="en-GB" sz="1600" spc="-1" strike="noStrike">
                <a:solidFill>
                  <a:srgbClr val="002060"/>
                </a:solidFill>
                <a:latin typeface="Verdana"/>
                <a:ea typeface="Arial"/>
              </a:rPr>
              <a:t>DG Neighbourhood and Enlargement Negotiation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8" name="Picture 6" descr="C:\Users\banesan\Desktop\Footer Box NEAR.jpg"/>
          <p:cNvPicPr/>
          <p:nvPr/>
        </p:nvPicPr>
        <p:blipFill>
          <a:blip r:embed="rId2"/>
          <a:stretch/>
        </p:blipFill>
        <p:spPr>
          <a:xfrm>
            <a:off x="4211640" y="6416640"/>
            <a:ext cx="701640" cy="468360"/>
          </a:xfrm>
          <a:prstGeom prst="rect">
            <a:avLst/>
          </a:prstGeom>
          <a:ln w="0">
            <a:noFill/>
          </a:ln>
        </p:spPr>
      </p:pic>
      <p:sp>
        <p:nvSpPr>
          <p:cNvPr id="9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328F6-E4B4-42DD-843D-E121796BCC84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TextBox 1"/>
          <p:cNvSpPr/>
          <p:nvPr/>
        </p:nvSpPr>
        <p:spPr>
          <a:xfrm>
            <a:off x="2627280" y="3573360"/>
            <a:ext cx="45370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Verdana"/>
                <a:ea typeface="Arial"/>
              </a:rPr>
              <a:t>Brussels, 30/11/2017 – 01/12/2017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2060"/>
                </a:solidFill>
                <a:latin typeface="Verdana"/>
                <a:ea typeface="Arial"/>
              </a:rPr>
              <a:t>Centre Albert Borschette (CCAB), Rue Froissart, 36 –Brussels, Room 0.B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0" descr=""/>
          <p:cNvPicPr/>
          <p:nvPr/>
        </p:nvPicPr>
        <p:blipFill>
          <a:blip r:embed="rId1"/>
          <a:stretch/>
        </p:blipFill>
        <p:spPr>
          <a:xfrm>
            <a:off x="487440" y="1609560"/>
            <a:ext cx="8169120" cy="51152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27280" y="1484280"/>
            <a:ext cx="338472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OVERVIEW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295280" y="3500280"/>
            <a:ext cx="655344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I. Welcome Not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1295280" y="4241880"/>
            <a:ext cx="6553440" cy="533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lvl="1" marL="59436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II. What's new in IPA, ENI East and ENI South regions – recent decision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305000" y="4941720"/>
            <a:ext cx="655308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         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    </a:t>
            </a: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III. Overview of the programm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2"/>
          <a:stretch/>
        </p:blipFill>
        <p:spPr>
          <a:xfrm>
            <a:off x="3486240" y="2193840"/>
            <a:ext cx="1512720" cy="1158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C:\Users\banesan\Desktop\Footer Box NEAR.jpg"/>
          <p:cNvPicPr/>
          <p:nvPr/>
        </p:nvPicPr>
        <p:blipFill>
          <a:blip r:embed="rId3"/>
          <a:stretch/>
        </p:blipFill>
        <p:spPr>
          <a:xfrm>
            <a:off x="4211640" y="6416640"/>
            <a:ext cx="701640" cy="468360"/>
          </a:xfrm>
          <a:prstGeom prst="rect">
            <a:avLst/>
          </a:prstGeom>
          <a:ln w="0">
            <a:noFill/>
          </a:ln>
        </p:spPr>
      </p:pic>
      <p:sp>
        <p:nvSpPr>
          <p:cNvPr id="10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9C1C6-935B-415E-9697-A8A0B2117179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285920" y="5616720"/>
            <a:ext cx="6553080" cy="533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IV. Some key messages before we star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1268280"/>
            <a:ext cx="8496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ff6600"/>
                </a:solidFill>
                <a:latin typeface="Arial Black"/>
                <a:ea typeface="MS PGothic"/>
              </a:rPr>
              <a:t>THE TWINNING TEAM: WHO DOES WHAT</a:t>
            </a:r>
            <a:br>
              <a:rPr sz="1800"/>
            </a:b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900000" y="1866960"/>
          <a:ext cx="5113440" cy="1735200"/>
        </p:xfrm>
        <a:graphic>
          <a:graphicData uri="http://schemas.openxmlformats.org/drawingml/2006/table">
            <a:tbl>
              <a:tblPr/>
              <a:tblGrid>
                <a:gridCol w="1729080"/>
                <a:gridCol w="1728720"/>
                <a:gridCol w="165564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ristophe (1 FTE)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nja (0,5 FTE)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ucia (0,5 FTE)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9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ban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men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ger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</a:tr>
              <a:tr h="385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elarus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he former Yugoslav Republic of Macedon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zerbaijan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snia &amp; Herzegovina 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srael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gypt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</a:tr>
              <a:tr h="19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ldov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lestine**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ebanon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orgia 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kraine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rdan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</a:tr>
              <a:tr h="19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osovo*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rb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rocco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urkey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ntenegro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unis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</a:tr>
            </a:tbl>
          </a:graphicData>
        </a:graphic>
      </p:graphicFrame>
      <p:sp>
        <p:nvSpPr>
          <p:cNvPr id="112" name="TextBox 8"/>
          <p:cNvSpPr/>
          <p:nvPr/>
        </p:nvSpPr>
        <p:spPr>
          <a:xfrm>
            <a:off x="971640" y="3716280"/>
            <a:ext cx="7416720" cy="28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f5494"/>
                </a:solidFill>
                <a:latin typeface="Verdana"/>
                <a:ea typeface="Arial"/>
              </a:rPr>
              <a:t>Horizontal areas of responsibility assigned to each Task Manager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Mandated Bodies: Christophe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Pipeline Coordination and bi-annual info to NCPs: Christophe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Harmonisation all internal tools and new Twinning Database: Lucia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IBD coordination: Sanja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RTA Training coordination: Sanja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Twinning Functional Mailbox: Birgit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Maintenance and Updates of NCP-lists for webpage etc.: Birgit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Ex-IPA HQ coordination SC procedure Old Manual: Birgit/Claus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Focus Group Coordination: Claus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Horizontal Twinning Evaluation coordination: Claus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Problem cases requiring litigation: Claus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Coordination CFA/Legal Units and/or EUD/MS/PC triangle dialogues: Claus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Communication/Visibility issues and Twinning Newsletter: Stefania (assigned to C3 management)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3" name="Picture 9" descr=""/>
          <p:cNvPicPr/>
          <p:nvPr/>
        </p:nvPicPr>
        <p:blipFill>
          <a:blip r:embed="rId1"/>
          <a:stretch/>
        </p:blipFill>
        <p:spPr>
          <a:xfrm>
            <a:off x="6254640" y="170028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114" name="TextBox 1"/>
          <p:cNvSpPr/>
          <p:nvPr/>
        </p:nvSpPr>
        <p:spPr>
          <a:xfrm>
            <a:off x="81000" y="6383160"/>
            <a:ext cx="864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f5494"/>
                </a:solidFill>
                <a:latin typeface="Verdana"/>
                <a:ea typeface="Arial"/>
              </a:rPr>
              <a:t>* This designation is without prejudice to positions on status and is in line with UNSCR 1244/1999 and the ICJ Opinion on the Kosovo Declaration of Independence</a:t>
            </a: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f5494"/>
                </a:solidFill>
                <a:latin typeface="Verdana"/>
                <a:ea typeface="Arial"/>
              </a:rPr>
              <a:t>** This designation shall not be construed as recognition of a State of Palestine and is without prejudice to the individual positions of the Member States on this issue.</a:t>
            </a: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C:\Users\banesan\Desktop\Footer Box NEAR.jpg"/>
          <p:cNvPicPr/>
          <p:nvPr/>
        </p:nvPicPr>
        <p:blipFill>
          <a:blip r:embed="rId1"/>
          <a:stretch/>
        </p:blipFill>
        <p:spPr>
          <a:xfrm>
            <a:off x="4211640" y="6416640"/>
            <a:ext cx="701640" cy="468360"/>
          </a:xfrm>
          <a:prstGeom prst="rect">
            <a:avLst/>
          </a:prstGeom>
          <a:ln w="0">
            <a:noFill/>
          </a:ln>
        </p:spPr>
      </p:pic>
      <p:sp>
        <p:nvSpPr>
          <p:cNvPr id="11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0E602-1C28-4700-98E4-7F84205B3165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7" name="Picture 1" descr=""/>
          <p:cNvPicPr/>
          <p:nvPr/>
        </p:nvPicPr>
        <p:blipFill>
          <a:blip r:embed="rId2"/>
          <a:stretch/>
        </p:blipFill>
        <p:spPr>
          <a:xfrm>
            <a:off x="2489040" y="3429000"/>
            <a:ext cx="4146840" cy="2592360"/>
          </a:xfrm>
          <a:prstGeom prst="rect">
            <a:avLst/>
          </a:prstGeom>
          <a:ln w="0">
            <a:noFill/>
          </a:ln>
        </p:spPr>
      </p:pic>
      <p:sp>
        <p:nvSpPr>
          <p:cNvPr id="118" name="TextBox 3"/>
          <p:cNvSpPr/>
          <p:nvPr/>
        </p:nvSpPr>
        <p:spPr>
          <a:xfrm>
            <a:off x="1106640" y="1731960"/>
            <a:ext cx="69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6600"/>
                </a:solidFill>
                <a:latin typeface="Verdana"/>
                <a:ea typeface="Arial"/>
              </a:rPr>
              <a:t>HAVE A GOOD START!</a:t>
            </a:r>
            <a:endParaRPr b="0" lang="en-US" sz="4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MILINOVIC Sanja (ELARG)</cp:lastModifiedBy>
  <cp:lastPrinted>2017-11-29T08:38:47Z</cp:lastPrinted>
  <dcterms:modified xsi:type="dcterms:W3CDTF">2017-12-12T12:21:27Z</dcterms:modified>
  <cp:revision>322</cp:revision>
  <dc:subject/>
  <dc:title>Slide 1</dc:title>
</cp:coreProperties>
</file>